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159-D269-4A08-A027-E8522970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9B7-EFE7-493F-883E-5D114223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8D6-E962-479A-B1C2-0F924175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984-4E1A-48B9-BAFC-D3BE519A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5B46-9F87-4756-A363-2E01B2F8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814E-47F1-46E8-8D11-F6128115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98F5-80FA-49F1-8AFF-5243226C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C021-5976-498C-A6EE-31B398F7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79F5-8655-4C66-AB45-2D0B00BE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7C10-2B45-4B2A-B0E4-FCF4D137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9515-D47F-42C5-8EF1-86FF0995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71D-D780-42E0-899F-2D7D3810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C116-396B-49ED-BB3E-A9EA7626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6177-8967-49FD-9737-BDAC4016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3049-2F4D-4E03-8167-A51E8BDF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52B1-50A3-4964-96AD-4412FED7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7DC6-0D71-4E00-BB07-11D6DFB0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D15-9C7B-4ED2-B49A-863537BD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CFB3-F1DD-4F57-B72C-1990810E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AEA-F6FC-4EA6-BFDA-C4CA348C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09E-5EA0-4EB9-AF6E-0F5C5E1E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4AB-8D15-467F-A86A-C9F6D750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A69-C34E-4152-98C3-6177CADE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520-61D0-4C4C-AF80-1DD0BC23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1DBC-0138-4D3D-8729-6A5C39744BA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2002-E465-4E9E-BD9A-CF2BDC9944B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brança pelo uso dos recursos híd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920" y="3728880"/>
            <a:ext cx="705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osta aprovada pelos Comitês PCJ em 21/10/2005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060640"/>
            <a:ext cx="8351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ício: a partir de 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de janeiro de 2006, com Plano e Agênci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odos usos significantes: CT-OL usos insignificante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gressividade: 60% (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75% (2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100% (3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Validade da proposta: 2 an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eneficiários: tod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cesso de regularização dos usos e campanha de divulg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plicação $: Programas do Plano e regras de hierarquiz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060640"/>
            <a:ext cx="835164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ntribuição Regional Voluntária” - FEHIDR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pontuação extra: PE = PE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max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PE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extingue-se com a cobrança estadu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rreção de valores e compensação no ano posterio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agamento com atraso: multa de 2% e SELIC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2460600"/>
                <a:ext cx="2160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órmul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obrança será feita levando-se em consideração os seguintes aspecto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o d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ca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a e transposta para outras bacias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trans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lançado n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lanç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onsumido do corpo hídrico (diferença entre o volume captado e o lançado), que será denotado por “Qcons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carga orgânica lançada no corpo hídrico, denotada por “CO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DBO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lemen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060640"/>
            <a:ext cx="835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arcelas e valor mínimo: R$ 20,00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batimento do Valor devido a C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batimento do valor devido pelo setor rur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gularização de débit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ondicionantes para acesso e indic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alores dos PUB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8839440" cy="3795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stimativa preliminar de arrecadaçã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05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474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380360" y="508464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1:28:47Z</dcterms:created>
  <dc:creator>lmoretti</dc:creator>
  <dc:description/>
  <dc:language>en-US</dc:language>
  <cp:lastModifiedBy>Windows</cp:lastModifiedBy>
  <dcterms:modified xsi:type="dcterms:W3CDTF">2005-10-27T00:55:16Z</dcterms:modified>
  <cp:revision>13</cp:revision>
  <dc:subject/>
  <dc:title>Cobrança pelo uso das águas</dc:title>
</cp:coreProperties>
</file>